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9C8-B35A-485E-9D45-342E43CD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1EA-DA0C-40CD-9B13-DE678C1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00A-ACEB-40D6-8C57-6E91FFF7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470-F99E-4C12-8CE0-36CA2860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633-8AFC-4811-8B91-A821AD12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632-17B7-4B7A-9FCB-D62A3F2E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ECE-FE3C-4E42-B6C1-2D894EC0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708-2339-4299-BCEC-21BECFD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57E-0C61-46E0-8A81-02E54FD3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1C3-F148-45E6-A18D-DE71ADC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856-A89A-4BE8-8B76-ADE99AD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98E-7E01-4924-9643-4D8B22C5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8CF-8EFD-4536-96F2-1FCB9A41A1D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全真中黑體"/>
              </a:rPr>
              <a:t>深深愛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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Deeper 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3:27Z</dcterms:created>
  <dc:creator> </dc:creator>
  <dc:description/>
  <dc:language>en-US</dc:language>
  <cp:lastModifiedBy> </cp:lastModifiedBy>
  <dcterms:modified xsi:type="dcterms:W3CDTF">2004-06-08T23:14:09Z</dcterms:modified>
  <cp:revision>1</cp:revision>
  <dc:subject/>
  <dc:title>深深愛〈1/3 〉 Deeper In Love</dc:title>
</cp:coreProperties>
</file>